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media/image2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9.png" ContentType="image/png"/>
  <Override PartName="/ppt/media/image30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BBFD-C6FA-4613-A89E-75508C5C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7987-7F2D-402B-838E-D1A151AE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AA7-DF8B-4C94-BE52-C4E445AF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D0B-80CF-4DB5-BD84-8B7A3908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F02-8699-4E15-87DF-DB0478A0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FB9-9F4F-47E2-B17B-99BF4798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04D-9F00-4C34-A9BC-11FD7A1C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408E-1850-4904-A3AF-0F963830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958-B291-4B4F-A700-C2256C76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486-3502-4494-AB08-4D70F54D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819D-0E27-44A7-A452-18F4B53B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7E2B-F188-4684-A2A7-6746732E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EF24-8999-4CD4-8B5A-A59F235EB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295280" y="243828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Lesson 15    Winter F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9900cc"/>
                </a:solidFill>
                <a:latin typeface="宋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838080" y="609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六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6081840" y="5661000"/>
            <a:ext cx="266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951280" y="5661000"/>
            <a:ext cx="3130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081840" y="5083200"/>
            <a:ext cx="266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951280" y="5083200"/>
            <a:ext cx="3130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ota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081840" y="4505400"/>
            <a:ext cx="266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951280" y="4505400"/>
            <a:ext cx="3130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6081840" y="3927600"/>
            <a:ext cx="266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2951280" y="3927600"/>
            <a:ext cx="3130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arr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6081840" y="3349800"/>
            <a:ext cx="266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2951280" y="3349800"/>
            <a:ext cx="3130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mall snow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6081840" y="2771640"/>
            <a:ext cx="2663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951280" y="2771640"/>
            <a:ext cx="31305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ig snow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6081840" y="1219320"/>
            <a:ext cx="266364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w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2951280" y="1219320"/>
            <a:ext cx="313056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s for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w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3"/>
          <p:cNvGrpSpPr/>
          <p:nvPr/>
        </p:nvGrpSpPr>
        <p:grpSpPr>
          <a:xfrm>
            <a:off x="609480" y="1219320"/>
            <a:ext cx="2341440" cy="5019120"/>
            <a:chOff x="609480" y="1219320"/>
            <a:chExt cx="2341440" cy="5019120"/>
          </a:xfrm>
        </p:grpSpPr>
        <p:sp>
          <p:nvSpPr>
            <p:cNvPr id="125" name="Rectangle 15"/>
            <p:cNvSpPr/>
            <p:nvPr/>
          </p:nvSpPr>
          <p:spPr>
            <a:xfrm>
              <a:off x="609480" y="2771640"/>
              <a:ext cx="2341440" cy="34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rs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x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all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609480" y="1219320"/>
              <a:ext cx="2341440" cy="15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eps of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king a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nowm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19"/>
          <p:cNvSpPr/>
          <p:nvPr/>
        </p:nvSpPr>
        <p:spPr>
          <a:xfrm>
            <a:off x="609480" y="1219320"/>
            <a:ext cx="8136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09480" y="6238800"/>
            <a:ext cx="8136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609480" y="1219320"/>
            <a:ext cx="0" cy="50194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8745480" y="1219320"/>
            <a:ext cx="0" cy="50194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609480" y="2771640"/>
            <a:ext cx="8136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2951280" y="1219320"/>
            <a:ext cx="0" cy="50194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5"/>
          <p:cNvSpPr/>
          <p:nvPr/>
        </p:nvSpPr>
        <p:spPr>
          <a:xfrm>
            <a:off x="6081840" y="1219320"/>
            <a:ext cx="0" cy="50194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6"/>
          <p:cNvSpPr/>
          <p:nvPr/>
        </p:nvSpPr>
        <p:spPr>
          <a:xfrm>
            <a:off x="2951280" y="3349800"/>
            <a:ext cx="57942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7"/>
          <p:cNvSpPr/>
          <p:nvPr/>
        </p:nvSpPr>
        <p:spPr>
          <a:xfrm>
            <a:off x="2951280" y="3927600"/>
            <a:ext cx="57942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8"/>
          <p:cNvSpPr/>
          <p:nvPr/>
        </p:nvSpPr>
        <p:spPr>
          <a:xfrm>
            <a:off x="2951280" y="4505400"/>
            <a:ext cx="57942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9"/>
          <p:cNvSpPr/>
          <p:nvPr/>
        </p:nvSpPr>
        <p:spPr>
          <a:xfrm>
            <a:off x="2951280" y="5083200"/>
            <a:ext cx="57942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0"/>
          <p:cNvSpPr/>
          <p:nvPr/>
        </p:nvSpPr>
        <p:spPr>
          <a:xfrm>
            <a:off x="2951280" y="5661000"/>
            <a:ext cx="57942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2975040" y="609480"/>
            <a:ext cx="29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snow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76320" y="152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154440" y="15228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ll in your gro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2590920" y="1371600"/>
            <a:ext cx="36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enjoy a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024640" y="2514600"/>
            <a:ext cx="663012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kating, skating, please come a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ing in this lovely snow all day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s and girls, young and o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be afraid of this winter c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 rot="21310800">
            <a:off x="5943600" y="1904760"/>
            <a:ext cx="2460600" cy="3860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0" y="1513440"/>
            <a:ext cx="7297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074960" y="36867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838080" y="990720"/>
            <a:ext cx="6553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a snow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ter is coming. It is fun to mak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owman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ut a …on the snowman. Wow!  It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_______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-83160" y="0"/>
            <a:ext cx="76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rite a passage about making a snowma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nd make it into a po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6659640" y="3452760"/>
            <a:ext cx="2104920" cy="3333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 rot="787200">
            <a:off x="5076360" y="4437000"/>
            <a:ext cx="1695600" cy="2181240"/>
          </a:xfrm>
          <a:prstGeom prst="rect">
            <a:avLst/>
          </a:prstGeom>
          <a:ln w="0">
            <a:noFill/>
          </a:ln>
        </p:spPr>
      </p:pic>
      <p:sp>
        <p:nvSpPr>
          <p:cNvPr id="152" name="WordArt 4"/>
          <p:cNvSpPr txBox="1"/>
          <p:nvPr/>
        </p:nvSpPr>
        <p:spPr>
          <a:xfrm rot="20924400">
            <a:off x="2271240" y="2101680"/>
            <a:ext cx="41673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Thank you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3924360" cy="32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5ab5c9ea15ce36d3707f024d3af33a87e950b150"/>
          <p:cNvPicPr/>
          <p:nvPr/>
        </p:nvPicPr>
        <p:blipFill>
          <a:blip r:embed="rId3"/>
          <a:stretch/>
        </p:blipFill>
        <p:spPr>
          <a:xfrm>
            <a:off x="0" y="3645000"/>
            <a:ext cx="3886200" cy="2984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4699800" y="1089000"/>
            <a:ext cx="277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nowm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792680" y="4237200"/>
            <a:ext cx="364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snowm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u=2401008797,3270017097&amp;fm=21&amp;gp=0"/>
          <p:cNvPicPr/>
          <p:nvPr/>
        </p:nvPicPr>
        <p:blipFill>
          <a:blip r:embed="rId2"/>
          <a:stretch/>
        </p:blipFill>
        <p:spPr>
          <a:xfrm rot="1009800">
            <a:off x="250560" y="333360"/>
            <a:ext cx="3419280" cy="2265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u=3992418126,3523735572&amp;fm=21&amp;gp=0"/>
          <p:cNvPicPr/>
          <p:nvPr/>
        </p:nvPicPr>
        <p:blipFill>
          <a:blip r:embed="rId3"/>
          <a:stretch/>
        </p:blipFill>
        <p:spPr>
          <a:xfrm rot="20569200">
            <a:off x="5435280" y="333000"/>
            <a:ext cx="3143160" cy="209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u=4023309539,4192692324&amp;fm=21&amp;gp=0"/>
          <p:cNvPicPr/>
          <p:nvPr/>
        </p:nvPicPr>
        <p:blipFill>
          <a:blip r:embed="rId4"/>
          <a:stretch/>
        </p:blipFill>
        <p:spPr>
          <a:xfrm>
            <a:off x="5364000" y="4581360"/>
            <a:ext cx="3152880" cy="2095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98480" y="3213000"/>
            <a:ext cx="64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making snowm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2010031709410899"/>
          <p:cNvPicPr/>
          <p:nvPr/>
        </p:nvPicPr>
        <p:blipFill>
          <a:blip r:embed="rId5"/>
          <a:stretch/>
        </p:blipFill>
        <p:spPr>
          <a:xfrm>
            <a:off x="611280" y="4365720"/>
            <a:ext cx="280836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733920" y="114300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629400" y="114300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733920" y="502920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838080" y="510552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733920" y="304812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838080" y="304812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838080" y="114300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450440" y="228600"/>
            <a:ext cx="56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need to make a snowm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1"/>
          <p:cNvPicPr/>
          <p:nvPr/>
        </p:nvPicPr>
        <p:blipFill>
          <a:blip r:embed="rId2"/>
          <a:stretch/>
        </p:blipFill>
        <p:spPr>
          <a:xfrm>
            <a:off x="533520" y="1143000"/>
            <a:ext cx="2133360" cy="155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2"/>
          <p:cNvPicPr/>
          <p:nvPr/>
        </p:nvPicPr>
        <p:blipFill>
          <a:blip r:embed="rId3"/>
          <a:stretch/>
        </p:blipFill>
        <p:spPr>
          <a:xfrm>
            <a:off x="3352680" y="914400"/>
            <a:ext cx="2438640" cy="1541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3"/>
          <p:cNvPicPr/>
          <p:nvPr/>
        </p:nvPicPr>
        <p:blipFill>
          <a:blip r:embed="rId4"/>
          <a:stretch/>
        </p:blipFill>
        <p:spPr>
          <a:xfrm>
            <a:off x="6248520" y="1066680"/>
            <a:ext cx="2438280" cy="137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4"/>
          <p:cNvPicPr/>
          <p:nvPr/>
        </p:nvPicPr>
        <p:blipFill>
          <a:blip r:embed="rId5"/>
          <a:stretch/>
        </p:blipFill>
        <p:spPr>
          <a:xfrm>
            <a:off x="304920" y="26668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5"/>
          <p:cNvPicPr/>
          <p:nvPr/>
        </p:nvPicPr>
        <p:blipFill>
          <a:blip r:embed="rId6"/>
          <a:stretch/>
        </p:blipFill>
        <p:spPr>
          <a:xfrm>
            <a:off x="3581280" y="2819520"/>
            <a:ext cx="2210040" cy="1806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6"/>
          <p:cNvPicPr/>
          <p:nvPr/>
        </p:nvPicPr>
        <p:blipFill>
          <a:blip r:embed="rId7"/>
          <a:stretch/>
        </p:blipFill>
        <p:spPr>
          <a:xfrm>
            <a:off x="533520" y="48006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7"/>
          <p:cNvPicPr/>
          <p:nvPr/>
        </p:nvPicPr>
        <p:blipFill>
          <a:blip r:embed="rId8"/>
          <a:stretch/>
        </p:blipFill>
        <p:spPr>
          <a:xfrm>
            <a:off x="3200400" y="4800600"/>
            <a:ext cx="2895480" cy="181944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8"/>
          <p:cNvGrpSpPr/>
          <p:nvPr/>
        </p:nvGrpSpPr>
        <p:grpSpPr>
          <a:xfrm>
            <a:off x="6629400" y="4495680"/>
            <a:ext cx="1943280" cy="1728720"/>
            <a:chOff x="6629400" y="4495680"/>
            <a:chExt cx="1943280" cy="1728720"/>
          </a:xfrm>
        </p:grpSpPr>
        <p:sp>
          <p:nvSpPr>
            <p:cNvPr id="68" name="AutoShape 19"/>
            <p:cNvSpPr/>
            <p:nvPr/>
          </p:nvSpPr>
          <p:spPr>
            <a:xfrm>
              <a:off x="6629400" y="4495680"/>
              <a:ext cx="1943280" cy="1728720"/>
            </a:xfrm>
            <a:prstGeom prst="wedgeEllipseCallout">
              <a:avLst>
                <a:gd name="adj1" fmla="val -47712"/>
                <a:gd name="adj2" fmla="val 6836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0"/>
            <p:cNvSpPr/>
            <p:nvPr/>
          </p:nvSpPr>
          <p:spPr>
            <a:xfrm>
              <a:off x="7205760" y="5072040"/>
              <a:ext cx="93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4"/>
          <p:cNvSpPr/>
          <p:nvPr/>
        </p:nvSpPr>
        <p:spPr>
          <a:xfrm>
            <a:off x="6629400" y="4419720"/>
            <a:ext cx="2057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11"/>
          <p:cNvPicPr/>
          <p:nvPr/>
        </p:nvPicPr>
        <p:blipFill>
          <a:blip r:embed="rId2">
            <a:lum bright="6000"/>
          </a:blip>
          <a:stretch/>
        </p:blipFill>
        <p:spPr>
          <a:xfrm rot="268800">
            <a:off x="3236400" y="1142640"/>
            <a:ext cx="1106640" cy="1268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10"/>
          <p:cNvPicPr/>
          <p:nvPr/>
        </p:nvPicPr>
        <p:blipFill>
          <a:blip r:embed="rId3"/>
          <a:stretch/>
        </p:blipFill>
        <p:spPr>
          <a:xfrm rot="17896200">
            <a:off x="2571480" y="1847520"/>
            <a:ext cx="761760" cy="2705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8"/>
          <p:cNvPicPr/>
          <p:nvPr/>
        </p:nvPicPr>
        <p:blipFill>
          <a:blip r:embed="rId4"/>
          <a:stretch/>
        </p:blipFill>
        <p:spPr>
          <a:xfrm>
            <a:off x="2743200" y="2144880"/>
            <a:ext cx="4952880" cy="4713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0"/>
          <p:cNvPicPr/>
          <p:nvPr/>
        </p:nvPicPr>
        <p:blipFill>
          <a:blip r:embed="rId5"/>
          <a:stretch/>
        </p:blipFill>
        <p:spPr>
          <a:xfrm rot="2997000">
            <a:off x="7219800" y="1847880"/>
            <a:ext cx="761760" cy="2705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12"/>
          <p:cNvPicPr/>
          <p:nvPr/>
        </p:nvPicPr>
        <p:blipFill>
          <a:blip r:embed="rId6"/>
          <a:stretch/>
        </p:blipFill>
        <p:spPr>
          <a:xfrm>
            <a:off x="-150840" y="2895480"/>
            <a:ext cx="3732120" cy="3733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9"/>
          <p:cNvPicPr/>
          <p:nvPr/>
        </p:nvPicPr>
        <p:blipFill>
          <a:blip r:embed="rId7"/>
          <a:stretch/>
        </p:blipFill>
        <p:spPr>
          <a:xfrm rot="17461200">
            <a:off x="5379840" y="1477440"/>
            <a:ext cx="533160" cy="473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11"/>
          <p:cNvPicPr/>
          <p:nvPr/>
        </p:nvPicPr>
        <p:blipFill>
          <a:blip r:embed="rId8">
            <a:lum bright="-24000"/>
          </a:blip>
          <a:stretch/>
        </p:blipFill>
        <p:spPr>
          <a:xfrm rot="8451600">
            <a:off x="3961800" y="1447560"/>
            <a:ext cx="507960" cy="582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3"/>
          <p:cNvPicPr/>
          <p:nvPr/>
        </p:nvPicPr>
        <p:blipFill>
          <a:blip r:embed="rId9"/>
          <a:stretch/>
        </p:blipFill>
        <p:spPr>
          <a:xfrm>
            <a:off x="3886200" y="2057400"/>
            <a:ext cx="2209680" cy="124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13"/>
          <p:cNvPicPr/>
          <p:nvPr/>
        </p:nvPicPr>
        <p:blipFill>
          <a:blip r:embed="rId10"/>
          <a:stretch/>
        </p:blipFill>
        <p:spPr>
          <a:xfrm>
            <a:off x="2819520" y="1523880"/>
            <a:ext cx="2438280" cy="1632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11"/>
          <p:cNvPicPr/>
          <p:nvPr/>
        </p:nvPicPr>
        <p:blipFill>
          <a:blip r:embed="rId11">
            <a:lum bright="6000"/>
          </a:blip>
          <a:stretch/>
        </p:blipFill>
        <p:spPr>
          <a:xfrm>
            <a:off x="5943600" y="1066680"/>
            <a:ext cx="1106640" cy="1268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153720" y="2286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and wa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03515E-006 C 0.01094 -0.0525 0.03264 -0.24237 0.06649 -0.31452 C 0.10017 -0.38668 0.15052 -0.41929 0.20278 -0.43224 C 0.25486 -0.44519 0.34236 -0.40009 0.37917 -0.39176 E">
                                      <p:cBhvr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8" descr="2009011409120833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8"/>
          <p:cNvPicPr/>
          <p:nvPr/>
        </p:nvPicPr>
        <p:blipFill>
          <a:blip r:embed="rId3"/>
          <a:stretch/>
        </p:blipFill>
        <p:spPr>
          <a:xfrm>
            <a:off x="1828800" y="1295280"/>
            <a:ext cx="6019920" cy="47293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5181480" y="2438280"/>
            <a:ext cx="2590920" cy="3505320"/>
          </a:xfrm>
          <a:prstGeom prst="rect">
            <a:avLst/>
          </a:prstGeom>
          <a:solidFill>
            <a:srgbClr val="ffffff">
              <a:alpha val="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981080" y="2514600"/>
            <a:ext cx="3048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981080" y="3048120"/>
            <a:ext cx="3048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981080" y="3657600"/>
            <a:ext cx="3048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981080" y="4267080"/>
            <a:ext cx="3048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981080" y="4876920"/>
            <a:ext cx="3048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981080" y="5410080"/>
            <a:ext cx="3048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1"/>
          <p:cNvPicPr/>
          <p:nvPr/>
        </p:nvPicPr>
        <p:blipFill>
          <a:blip r:embed="rId4"/>
          <a:stretch/>
        </p:blipFill>
        <p:spPr>
          <a:xfrm>
            <a:off x="2057400" y="2475000"/>
            <a:ext cx="2603520" cy="496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2"/>
          <p:cNvPicPr/>
          <p:nvPr/>
        </p:nvPicPr>
        <p:blipFill>
          <a:blip r:embed="rId5"/>
          <a:stretch/>
        </p:blipFill>
        <p:spPr>
          <a:xfrm>
            <a:off x="2108160" y="3048120"/>
            <a:ext cx="2921040" cy="469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3"/>
          <p:cNvPicPr/>
          <p:nvPr/>
        </p:nvPicPr>
        <p:blipFill>
          <a:blip r:embed="rId6"/>
          <a:stretch/>
        </p:blipFill>
        <p:spPr>
          <a:xfrm>
            <a:off x="2057400" y="3657600"/>
            <a:ext cx="1486080" cy="442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4"/>
          <p:cNvPicPr/>
          <p:nvPr/>
        </p:nvPicPr>
        <p:blipFill>
          <a:blip r:embed="rId7"/>
          <a:stretch/>
        </p:blipFill>
        <p:spPr>
          <a:xfrm>
            <a:off x="2057400" y="4267080"/>
            <a:ext cx="2082960" cy="470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5"/>
          <p:cNvPicPr/>
          <p:nvPr/>
        </p:nvPicPr>
        <p:blipFill>
          <a:blip r:embed="rId8"/>
          <a:stretch/>
        </p:blipFill>
        <p:spPr>
          <a:xfrm>
            <a:off x="2057400" y="4876920"/>
            <a:ext cx="2235240" cy="45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6"/>
          <p:cNvPicPr/>
          <p:nvPr/>
        </p:nvPicPr>
        <p:blipFill>
          <a:blip r:embed="rId9"/>
          <a:stretch/>
        </p:blipFill>
        <p:spPr>
          <a:xfrm>
            <a:off x="2057400" y="5486400"/>
            <a:ext cx="1833480" cy="433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7副本"/>
          <p:cNvPicPr/>
          <p:nvPr/>
        </p:nvPicPr>
        <p:blipFill>
          <a:blip r:embed="rId10"/>
          <a:stretch/>
        </p:blipFill>
        <p:spPr>
          <a:xfrm>
            <a:off x="5791320" y="2514600"/>
            <a:ext cx="1098360" cy="3352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9"/>
          <p:cNvSpPr/>
          <p:nvPr/>
        </p:nvSpPr>
        <p:spPr>
          <a:xfrm>
            <a:off x="519480" y="476280"/>
            <a:ext cx="861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they need for the snow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2902991_180537074039_2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447920" y="1066680"/>
            <a:ext cx="693396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text again and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estion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ile you’re rea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lease underline the answe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898880" y="3429000"/>
            <a:ext cx="4245120" cy="3290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2340000" y="1125360"/>
            <a:ext cx="60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r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two stones for his eyes,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ana for his mouth and tw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toes for his 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0876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76320" y="1905120"/>
            <a:ext cx="87026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)Next we make two balls of paper. One is small and th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s b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) Then we put the small balll and the big ball in the s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) Let’s make a sock snowman. First we need a white sock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aper and cray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) Finally, we draw a face and make the snowman beauti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449720" y="60948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read the sentences and numb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80880" y="3657600"/>
            <a:ext cx="3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80880" y="2057400"/>
            <a:ext cx="3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83040" y="3048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8304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5T02:18:56Z</dcterms:created>
  <dc:creator/>
  <dc:description/>
  <dc:language>en-US</dc:language>
  <cp:lastModifiedBy>840243721@qq.com</cp:lastModifiedBy>
  <dcterms:modified xsi:type="dcterms:W3CDTF">2015-09-15T06:41:26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